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B86-584B-45C8-B3DC-2C22C269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AEA-1400-487E-8CE0-45DB6DA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5EC-2C38-42EF-BBAA-0B7D0AF8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62B-A995-482C-B4E1-712695E8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BA0A3-8E7F-427C-8772-496204B7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2CCB6-B4E7-40DF-8EBE-7552344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63FEC-92C6-4C4A-9C97-70FFA8E8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75590-05F7-4B57-B49E-BC0B4AC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41AFA-B045-42B3-8DBF-17933EF0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3426B-4B1B-4987-972F-5D042CB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814F-8CE0-4468-A6D5-EDC5153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834-E288-4A89-87B5-63D7569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8EEAA-54C0-426C-891F-BA58BE3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D2015-C858-4677-A386-A5FCA1D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79EA4-89B9-4A99-BD65-1F1E72B3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6EFF1-33F1-4EDF-913F-9741553B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E1801-EDB5-4629-83A4-7119F8FC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55A-0D0C-417B-924B-5AEA2FB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C5A-8A72-475E-A3FC-ACE9049F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10F-FA6E-414C-8246-257F526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B76-0F4D-4A74-A94A-AC861D0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488-4A4C-485C-BB1F-3F68043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C9A-3584-4005-A082-6DAB7EE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D49-D107-4C7C-9353-7DF179E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12B5-C8D5-4AFC-8FB7-CCBB72E7B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459-96BD-4176-8BFB-DD6C6E37A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oll_weevi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Unit III: The Progressive Move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: Social Reform: (Great Migration, Urban Poor, Women’s Rights, Workers Righ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: Political &amp; Economic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: Presidential Reform Efforts (Environmental Refor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933960" cy="914400"/>
          </a:xfrm>
          <a:prstGeom prst="rect">
            <a:avLst/>
          </a:prstGeom>
          <a:solidFill>
            <a:srgbClr val="808000"/>
          </a:solidFill>
          <a:ln w="7632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D. Discrimination in the North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57200" y="1600200"/>
            <a:ext cx="4038480" cy="4495680"/>
            <a:chOff x="457200" y="1600200"/>
            <a:chExt cx="4038480" cy="44956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45720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6386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Restrictive housing, living, &amp; working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gregated into the most dilapidated (ruined) sections of th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igh prices for inferior hous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Discriminated against in the workpl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2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5238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E.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Fight for Civil Rights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African American ideas on improving social &amp; economic conditions of black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36700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31120" y="57913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Image: caption follows"/>
          <p:cNvPicPr/>
          <p:nvPr/>
        </p:nvPicPr>
        <p:blipFill>
          <a:blip r:embed="rId2"/>
          <a:stretch/>
        </p:blipFill>
        <p:spPr>
          <a:xfrm>
            <a:off x="6324480" y="2514600"/>
            <a:ext cx="2140200" cy="2819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707520" y="57150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.E.B Dub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476440" cy="3714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07480" y="58672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us Ga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79096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cus Ga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orn in Jamaica to an educated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ounded the UNIA (Universal Negro Improvement Association) at its zenith, the UNIA claimed over a million memb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503520" cy="4191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29200" y="4632120"/>
            <a:ext cx="3770280" cy="17398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Our success educationally, industrially and politically is bas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protection of a nation founded by ourselves. And the nation can be nowhere else but in Africa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79096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believed Blacks should have a permanent homeland in Africa, &amp; sought to develop Lib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credited with creating the biggest pan-African movement (1920’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99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n Achieving racial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elieved that blacks should not push too hard for equal rights but to instead focus on learning vocational skills as a path to economic prog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Booker-T-Washington-from-ppt"/>
          <p:cNvPicPr/>
          <p:nvPr/>
        </p:nvPicPr>
        <p:blipFill>
          <a:blip r:embed="rId1"/>
          <a:stretch/>
        </p:blipFill>
        <p:spPr>
          <a:xfrm>
            <a:off x="533520" y="1219320"/>
            <a:ext cx="3876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 Dubo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s on Achieving racial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 Dubo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elieved that A.A should fight to gain equal rights, especially voting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tarted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agara mov’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05) which was meeting of A.A leaders in Niagara Falls, 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eventually bega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AC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National Association for the Advancement of Colored People) whose goal was to fight for rights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dubois285"/>
          <p:cNvPicPr/>
          <p:nvPr/>
        </p:nvPicPr>
        <p:blipFill>
          <a:blip r:embed="rId1"/>
          <a:stretch/>
        </p:blipFill>
        <p:spPr>
          <a:xfrm>
            <a:off x="762120" y="1447920"/>
            <a:ext cx="3286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3e3ff"/>
                </a:solidFill>
                <a:uFillTx/>
                <a:latin typeface="Arial"/>
              </a:rPr>
              <a:t>I.The Great Mig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hat was the Great Mig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hat were the causes of the G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hat were the effects of the G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4038480" cy="6354720"/>
          </a:xfrm>
          <a:prstGeom prst="rect">
            <a:avLst/>
          </a:prstGeom>
          <a:solidFill>
            <a:srgbClr val="003366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668520" indent="-668520">
              <a:spcBef>
                <a:spcPts val="700"/>
              </a:spcBef>
              <a:buClr>
                <a:srgbClr val="e3e3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at was the Great Mig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Description of Great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M- the migration of 1.6 mil African-Americans from the South to the North b/t the years 1910-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M- over 5 mil. Afr. Amer. b/t 1940-197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40812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33840" y="3733920"/>
            <a:ext cx="4610160" cy="2936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2280" y="6477120"/>
            <a:ext cx="39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cob Lawrence’s first in his Migration series (Whitn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676520" y="0"/>
            <a:ext cx="5792760" cy="3666960"/>
            <a:chOff x="1676520" y="0"/>
            <a:chExt cx="5792760" cy="36669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676520" y="0"/>
              <a:ext cx="579276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1676520" y="0"/>
              <a:ext cx="5792760" cy="366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8686800" cy="281952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G.M created the first large, urban black communities in the No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North saw its black population rise about 20 percent between 1910 and 193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hicago, Detroit, New York, and Cleveland -- biggest incr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38880" cy="6094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I. Causes of the G.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594360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sh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cape the problems of racism in the S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Legal &amp; Social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"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Jim Crow" Law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regation, poll taxes, examinations, property qualifications, &amp; grandfather clauses limiting the ability of blacks to vote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105520" y="914400"/>
            <a:ext cx="3236760" cy="5029200"/>
            <a:chOff x="5105520" y="914400"/>
            <a:chExt cx="3236760" cy="50292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105520" y="914400"/>
              <a:ext cx="323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5105520" y="914400"/>
              <a:ext cx="32367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79096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Laws requiring separate public ameniti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Plessy V. Fergu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Ku Klux Klan- Lynching &amp; the social institutions of ra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u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lacks were not afforded the same legal protection as whites &amp; they had little access to legal defe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8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739152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ll: Economic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Opportunities higher wages from railroads &amp; fac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T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boll weevi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festation of Southern cotton fields in the late 1910s forced many sharecroppers to search for alternative employment opportun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91120" y="762120"/>
            <a:ext cx="4952880" cy="4525920"/>
            <a:chOff x="4191120" y="762120"/>
            <a:chExt cx="4952880" cy="45259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4191120" y="762120"/>
              <a:ext cx="49528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4191120" y="762120"/>
              <a:ext cx="49528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739152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 war industries created new jobs in the service jobs that new factory workers va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Great Mississippi Flood of 1927 displaced hundreds of thousands of African-American farmers &amp; farm work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191120" y="762120"/>
            <a:ext cx="4952880" cy="4525920"/>
            <a:chOff x="4191120" y="762120"/>
            <a:chExt cx="4952880" cy="45259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191120" y="762120"/>
              <a:ext cx="49528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191120" y="762120"/>
              <a:ext cx="49528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339966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C. Chicago Defen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1905 most influential of African American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inted photographs, cartoons &amp; even poems about the advantages of moving no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Writers generated "moving fever," by sending letters &amp; money to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6:36:36Z</dcterms:created>
  <dc:creator>Gerald Autler</dc:creator>
  <dc:description/>
  <dc:language>en-US</dc:language>
  <cp:lastModifiedBy>Mark Greer</cp:lastModifiedBy>
  <dcterms:modified xsi:type="dcterms:W3CDTF">2010-11-18T02:45:39Z</dcterms:modified>
  <cp:revision>26</cp:revision>
  <dc:subject/>
  <dc:title>The Great Migration</dc:title>
</cp:coreProperties>
</file>